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DDC-8F6F-4BC4-A1D8-4C014890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C94-FA92-4550-ADEF-DF4C7F1A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9CA-8D47-43CE-952E-573A939E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3CC-90E4-4C55-A01B-B973DAE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7DA-DA5F-4331-BA7A-3FB7325C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8E9-4737-43BF-8C02-811904D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CA6-0476-49D5-8AE2-5CE05445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232-51DC-441C-9658-C2493FA8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BD2-14A5-46B4-86F3-3731A103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EB3-988B-446C-B823-4EFFB0A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95B-2E61-4989-92B1-23190A2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2D1-8D33-4DB7-8980-4696848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5B5-6443-44FB-AA1E-F6DFE915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360" y="2717640"/>
            <a:ext cx="728748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ISTEMSKE  MALIGNE,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UMORSKE BOLESTI LEUKO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(limfocita i nelimfo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di se o tumorskoj bolesti jednog klona leukoc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svrsishodno stvaranje ogromnog  broja leukem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je onemog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uje stvaranje normaln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 u kostnoj s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 i r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italnih organa i uvek vodi smrtnom ishodu ako se ne 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209680" y="1295280"/>
            <a:ext cx="4876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609480"/>
            <a:ext cx="90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FAB klasifikacila ALL po morfološkim kriterijum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1600200"/>
          <a:ext cx="8534160" cy="4351320"/>
        </p:xfrm>
        <a:graphic>
          <a:graphicData uri="http://schemas.openxmlformats.org/drawingml/2006/table">
            <a:tbl>
              <a:tblPr/>
              <a:tblGrid>
                <a:gridCol w="1544400"/>
                <a:gridCol w="1951200"/>
                <a:gridCol w="2523960"/>
                <a:gridCol w="2514600"/>
              </a:tblGrid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kriteri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ito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sku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itne vaku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labo bazofi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ogat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tke vak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azofi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og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ako vakuolizovan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zrazito bazofi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e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imfoid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arez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ekad podelj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epravilnog  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lika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č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sto podelj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kruglo ili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val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roma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omo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etero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omogen sa ta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č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kic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eda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lo, nekad  nevidlj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iše veli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č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-3,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oma izraz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li</a:t>
                      </a:r>
                      <a:r>
                        <a:rPr b="1" i="1" lang="sl-SI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č</a:t>
                      </a: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a </a:t>
                      </a:r>
                      <a:r>
                        <a:rPr b="1" i="1" lang="sl-SI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ć</a:t>
                      </a: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l</a:t>
                      </a:r>
                      <a:r>
                        <a:rPr b="1" i="1" lang="sl-SI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ć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like 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ć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lije,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č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udru</a:t>
                      </a:r>
                      <a:r>
                        <a:rPr b="1" i="1" lang="sl-SI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ž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ne u go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WordArt 40"/>
          <p:cNvSpPr txBox="1"/>
          <p:nvPr/>
        </p:nvSpPr>
        <p:spPr>
          <a:xfrm>
            <a:off x="5638680" y="22860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54680" y="609480"/>
            <a:ext cx="8063280" cy="23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ff6699"/>
                </a:solidFill>
                <a:latin typeface="Arial"/>
                <a:ea typeface="Times New Roman"/>
              </a:rPr>
              <a:t>FAB  klasifikacija ANLL de</a:t>
            </a:r>
            <a:r>
              <a:rPr b="1" i="1" lang="sl-SI" sz="2400" spc="-1" strike="noStrike">
                <a:solidFill>
                  <a:srgbClr val="ff6699"/>
                </a:solidFill>
                <a:latin typeface="Arial"/>
              </a:rPr>
              <a:t>č</a:t>
            </a:r>
            <a:r>
              <a:rPr b="1" i="1" lang="en-US" sz="2400" spc="-1" strike="noStrike">
                <a:solidFill>
                  <a:srgbClr val="ff6699"/>
                </a:solidFill>
                <a:latin typeface="Arial"/>
                <a:ea typeface="Times New Roman"/>
              </a:rPr>
              <a:t>jeg d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logija                morfologi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kostna s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0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nediferenciran ob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1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ijeloblasti, nema sazrev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2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mijeloblasti, delim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 sazr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ijeloblasti su sa azurofilnim gran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ula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mijelocita i mijelo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3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promijelocit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ipergranul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4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mijelomonociti-promijelocit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ijeloci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monocit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noc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5a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utna monoblastna-monobla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5b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iferenciran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monoblast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monocit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noci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6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itroleukem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M7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egakariocitna leukem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isane su još i eozinofiln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azofilna i bifenotip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utna limf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na leukem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~AUT0029"/>
          <p:cNvPicPr/>
          <p:nvPr/>
        </p:nvPicPr>
        <p:blipFill>
          <a:blip r:embed="rId1"/>
          <a:stretch/>
        </p:blipFill>
        <p:spPr>
          <a:xfrm>
            <a:off x="1049400" y="1981080"/>
            <a:ext cx="70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utna mijeloidna leukemija (A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~AUT0030"/>
          <p:cNvPicPr/>
          <p:nvPr/>
        </p:nvPicPr>
        <p:blipFill>
          <a:blip r:embed="rId1"/>
          <a:stretch/>
        </p:blipFill>
        <p:spPr>
          <a:xfrm>
            <a:off x="1987560" y="1981080"/>
            <a:ext cx="516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kutna limfoidna leukemija (A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~AUT0039"/>
          <p:cNvPicPr/>
          <p:nvPr/>
        </p:nvPicPr>
        <p:blipFill>
          <a:blip r:embed="rId1"/>
          <a:stretch/>
        </p:blipFill>
        <p:spPr>
          <a:xfrm>
            <a:off x="685800" y="2451240"/>
            <a:ext cx="7772400" cy="3173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524600" y="57913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Unicode MS"/>
              </a:rPr>
              <a:t>L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99320" y="57913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Unicode MS"/>
              </a:rPr>
              <a:t>L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782400" y="57913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Unicode MS"/>
              </a:rPr>
              <a:t>L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4680" y="609480"/>
            <a:ext cx="8063280" cy="23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hemijskim analizama utvrdjuje se prisutnost enzima koji s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rakterist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 za limfocit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li mijeloidne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ITOHEMIJSKE  osobenosti leukemijskih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ć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e                 PAS              SB          MPO        CE        NSE           T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limfoblast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+                  -               -               -            -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mijeloblast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              +              +           -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romijelocit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                 +              +              +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monoblast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if+              -               -               -            +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romonocit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dif+    n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gran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razl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to     -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+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li-            il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ritroblast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if+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-              -               -             +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l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41720" y="609480"/>
            <a:ext cx="8269920" cy="22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ff"/>
                </a:solidFill>
                <a:latin typeface="Arial"/>
                <a:ea typeface="Times New Roman"/>
              </a:rPr>
              <a:t>Imunolo</a:t>
            </a:r>
            <a:r>
              <a:rPr b="1" i="1" lang="sl-SI" sz="2400" spc="-1" strike="noStrike">
                <a:solidFill>
                  <a:srgbClr val="9966ff"/>
                </a:solidFill>
                <a:latin typeface="Arial"/>
                <a:ea typeface="Times New Roman"/>
              </a:rPr>
              <a:t>škim testovim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gu se ALL podeliti na najmanje š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dtipova u zavisnosti od toga o kojim se limfocitima ra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O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C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(common)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ALL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(CD10 antigen,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B-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 antigen)-- oko 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PRE B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B ALL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------------                                                      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ko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PRE T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2000" spc="-1" strike="noStrike">
                <a:solidFill>
                  <a:srgbClr val="9966ff"/>
                </a:solidFill>
                <a:latin typeface="Arial"/>
                <a:ea typeface="Times New Roman"/>
              </a:rPr>
              <a:t>T ALL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-----------                                                         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ko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r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vanje podtipa ima zn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ja za izbor terapij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i prognost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i zn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munološki pregledi kod ANLL  za sada nemaju zn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548640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5760" y="609480"/>
            <a:ext cx="8588520" cy="21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naliza hromozoma i koli</a:t>
            </a:r>
            <a:r>
              <a:rPr b="1" i="1" lang="sl-SI" sz="24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i="1" lang="sl-SI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ine DNK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(impulsna citofotometrija) 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ognosti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ki i dijagnosti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ki zna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iperploidija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itostatici imaju povoljan efe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seudo i hipoploidija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epovoljan efek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h1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romozom,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ranslokacija t 4/11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epovoljan efe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ojava novih hromozomskih anomalija u toku le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nja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epovoljan efe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548640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03120" y="380880"/>
            <a:ext cx="8556840" cy="22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cc0099"/>
                </a:solidFill>
                <a:latin typeface="Arial"/>
              </a:rPr>
              <a:t>           </a:t>
            </a:r>
            <a:r>
              <a:rPr b="1" i="1" lang="sl-SI" sz="2400" spc="-1" strike="noStrike">
                <a:solidFill>
                  <a:srgbClr val="cc0099"/>
                </a:solidFill>
                <a:latin typeface="Arial"/>
                <a:ea typeface="Times New Roman"/>
              </a:rPr>
              <a:t>KLINI</a:t>
            </a:r>
            <a:r>
              <a:rPr b="1" i="1" lang="sl-SI" sz="2400" spc="-1" strike="noStrike">
                <a:solidFill>
                  <a:srgbClr val="cc0099"/>
                </a:solidFill>
                <a:latin typeface="Arial"/>
              </a:rPr>
              <a:t>Č</a:t>
            </a:r>
            <a:r>
              <a:rPr b="1" i="1" lang="sl-SI" sz="2400" spc="-1" strike="noStrike">
                <a:solidFill>
                  <a:srgbClr val="cc0099"/>
                </a:solidFill>
                <a:latin typeface="Arial"/>
                <a:ea typeface="Times New Roman"/>
              </a:rPr>
              <a:t>KI SIMP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2000" spc="-1" strike="noStrike" u="sng">
                <a:solidFill>
                  <a:srgbClr val="cc0099"/>
                </a:solidFill>
                <a:uFillTx/>
                <a:latin typeface="Arial"/>
                <a:ea typeface="Times New Roman"/>
              </a:rPr>
              <a:t>Opšti:</a:t>
            </a:r>
            <a:r>
              <a:rPr b="1" i="1" lang="sl-SI" sz="1800" spc="-1" strike="noStrike">
                <a:solidFill>
                  <a:srgbClr val="cc00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ubitak apetita d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 period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mena raspol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 i ponaša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višena temperatur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znaci infekcij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olovi u ko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 u="sng">
                <a:solidFill>
                  <a:srgbClr val="cc0099"/>
                </a:solidFill>
                <a:uFillTx/>
                <a:latin typeface="Arial"/>
                <a:ea typeface="Times New Roman"/>
              </a:rPr>
              <a:t>Simptomi pancitopenij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gresivna anemi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java krvarenja zbog trombcitopenij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fekcije zbog neutropen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99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 u="sng">
                <a:solidFill>
                  <a:srgbClr val="cc0099"/>
                </a:solidFill>
                <a:uFillTx/>
                <a:latin typeface="Arial"/>
                <a:ea typeface="Times New Roman"/>
              </a:rPr>
              <a:t>Ekstranodularni infiltr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imfadenopati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plenomegali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epatomegal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ubperiostni infiltra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eningealni sindro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stojanje d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pancitopenije bez znakova leukemije 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biti preleukemi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59600" y="533520"/>
            <a:ext cx="8063280" cy="20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imptomi akutnih leukemija ne razlikuju se bitno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ako se kod pojedini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ubtipova javljaju i dodatni simptomi i zna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ANLL</a:t>
            </a:r>
            <a:r>
              <a:rPr b="1" i="1" lang="sl-SI" sz="1800" spc="-1" strike="noStrike">
                <a:solidFill>
                  <a:srgbClr val="cc0099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šć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su smrtonosna krvare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M1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i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M2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izr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a je leukocitoz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više od 150x10</a:t>
            </a:r>
            <a:r>
              <a:rPr b="1" i="1" lang="sl-SI" sz="1800" spc="-1" strike="noStrike" baseline="30000">
                <a:solidFill>
                  <a:srgbClr val="003366"/>
                </a:solidFill>
                <a:latin typeface="Arial"/>
              </a:rPr>
              <a:t>9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ukostaza u jetr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lezi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ol u trbu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M3</a:t>
            </a:r>
            <a:r>
              <a:rPr b="1" i="1" lang="sl-SI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java DIK-a sa smrtonosnim krvarenj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ALL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 su infiltrati test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T ALL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isutan tumor medijastin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  <a:ea typeface="Times New Roman"/>
              </a:rPr>
              <a:t>B ALL</a:t>
            </a:r>
            <a:r>
              <a:rPr b="1" i="1" lang="sl-SI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filtracija mezenterijum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bdominalni 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571500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Smrtnost dece od neoplazmi i nesreć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b (god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902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oplaz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902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sr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9022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–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48200" y="457200"/>
            <a:ext cx="8674560" cy="20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ijagnostika leukemija mora biti precizn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aljna i kompletna 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tka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erapijskog tretm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r>
              <a:rPr b="1" i="1" lang="sl-SI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Program ispitivanja deteta sa sumnjom na akutnu leukem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apilarna krvna slik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s retikulocitima i tromboci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ostna sr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hemij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munologija bl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NK analiz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mozomsk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aliz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rfolo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spitivanje krvnih sastojak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kalna fosfataz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munoglobulin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reatin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GOT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GPT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lutamiltranspeptidaz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ektroliti serum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milaz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faktori koagulacij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rvne grup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LA tipizacija bolesnika i rod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irusološka ispitivan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hepatitis B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megalovirus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pstein Barr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egled u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Lumbalna punkci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i detaljan pregled likv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Oftalmološki preg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KG,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adiološko ispitivanj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T mozg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T g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udnog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š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T abdom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U toku terapijskog protokola neophodno je redovno pr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 rada src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l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tr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ubr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54680" y="431640"/>
            <a:ext cx="8063280" cy="18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1" i="1" lang="sl-SI" sz="2400" spc="-1" strike="noStrike">
                <a:solidFill>
                  <a:srgbClr val="cc00cc"/>
                </a:solidFill>
                <a:latin typeface="Arial"/>
                <a:ea typeface="Times New Roman"/>
              </a:rPr>
              <a:t>DIFERENCIJALNA DIJ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Aplast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na anem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I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Atip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ni oblici infektivne mononukleoze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H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Metastaze nekih tumora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(neuroblastom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maligni limfo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rhabdomyosarc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562720" y="38088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83240" y="533520"/>
            <a:ext cx="8063280" cy="173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e po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tka tretmana ALL,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 radi pravilnog odre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vanja protoko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e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nja   odredjuje se 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sl-SI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stepen rizi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arametri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sl-SI" sz="1600" spc="-1" strike="noStrike">
                <a:solidFill>
                  <a:srgbClr val="ff99ff"/>
                </a:solidFill>
                <a:latin typeface="Arial"/>
                <a:ea typeface="Times New Roman"/>
              </a:rPr>
              <a:t>dobar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sl-SI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lo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broj leukocita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manji od 50x10                   ve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 od 50x10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godine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2-10                               manje od 1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više od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alla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(common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antigen,CD10)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isutan                                odsu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vrsta limfocita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rane B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ije                      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itogenetika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normalna                             abnorm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FAB klasifikacija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1                                          L2 i 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omegal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i="1" lang="sl-SI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u medijastinuma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sl-SI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dsutni                                   prisut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5562720" y="38088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6120" y="457200"/>
            <a:ext cx="8466840" cy="162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99ff"/>
                </a:solidFill>
                <a:latin typeface="Arial"/>
              </a:rPr>
              <a:t>¸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99ff"/>
                </a:solidFill>
                <a:latin typeface="Arial"/>
              </a:rPr>
              <a:t>                                   </a:t>
            </a:r>
            <a:r>
              <a:rPr b="1" i="1" lang="sl-SI" sz="2400" spc="-1" strike="noStrike">
                <a:solidFill>
                  <a:srgbClr val="ff99ff"/>
                </a:solidFill>
                <a:latin typeface="Arial"/>
                <a:ea typeface="Times New Roman"/>
              </a:rPr>
              <a:t>LE</a:t>
            </a:r>
            <a:r>
              <a:rPr b="1" i="1" lang="sl-SI" sz="2400" spc="-1" strike="noStrike">
                <a:solidFill>
                  <a:srgbClr val="ff99ff"/>
                </a:solidFill>
                <a:latin typeface="Arial"/>
              </a:rPr>
              <a:t>Č</a:t>
            </a:r>
            <a:r>
              <a:rPr b="1" i="1" lang="sl-SI" sz="2400" spc="-1" strike="noStrike">
                <a:solidFill>
                  <a:srgbClr val="ff99ff"/>
                </a:solidFill>
                <a:latin typeface="Arial"/>
                <a:ea typeface="Times New Roman"/>
              </a:rPr>
              <a:t>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948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mrtnost za nekoliko nedel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952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vi citostatic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vljavanje do 2 go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968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ntinuirana hemioterapij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zr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 CNS-a-30% iz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1975 i dalj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vi citostatici i protokol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vljavanje preko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avremena terapija t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 brzom uspostavljanju remisije i potpunom iz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99ff"/>
                </a:solidFill>
                <a:latin typeface="Arial"/>
                <a:ea typeface="Times New Roman"/>
              </a:rPr>
              <a:t>REMISI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ratkotrajn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sto i potpuni nestanak leukemijsk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99ff"/>
                </a:solidFill>
                <a:latin typeface="Arial"/>
                <a:ea typeface="Times New Roman"/>
              </a:rPr>
              <a:t>PARCIJALNA REMISIJA</a:t>
            </a:r>
            <a:r>
              <a:rPr b="1" i="1" lang="sl-SI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isutni neki znaci leukem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99ff"/>
                </a:solidFill>
                <a:latin typeface="Arial"/>
                <a:ea typeface="Times New Roman"/>
              </a:rPr>
              <a:t>RELAPS</a:t>
            </a:r>
            <a:r>
              <a:rPr b="1" i="1" lang="sl-SI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novna pojava blasta u kostnoj s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NS-u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estisima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ugim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rganim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u toku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li posle 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6080" y="380880"/>
            <a:ext cx="8977680" cy="160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ekretnica u 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u AL dece nastala je sa uv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olihemioterap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filakse leukemije CNS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r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vanjem faktora rizik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LR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filaksom Pneumocistis carini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erapijom za HSV 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Z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nsplantacijom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alogenom i autolognom) kostne s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vi protokoli podrazumevaju tri faze terap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az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dukcija remis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I faz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nsolidacija remisije i profilaksa CNS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II faz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vanje postignute remis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556272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5400" y="457200"/>
            <a:ext cx="8544600" cy="174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Intenzivna terapija se nastavlja i u potpunoj remisiji zbog ostatak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leukemijskih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arišta u mnogim orga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Po izl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ju oko 10-15% bolesnika sa ALL mo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 da dobije leukemiju CNS-a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oko 10% leukemiju testisa.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Leukemija CNS-a prevenira se iradijacijom i i.t. davanjem citostati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ntileukemijski lekov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–citostatici deluju  na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lije u razvoju.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aju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udru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o jer deluju svaki na pojedinu fazu razvoja i deobe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l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Neselektivni su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eluju  i na zdrave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lije u razvoju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mijelosupresivni su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imunosupresiv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Razl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ito deluju i na pojedine tumorske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lije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zato je potrebna preciz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ijagnoza pre tretm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L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je leukemija obavlja se po odr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im protokolim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koji predv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aj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vrstu lek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ozu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interval davanj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u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ž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n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u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 l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ja.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L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je obuhvata i suportivne mere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zaštitu od infekcij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substituciju krvn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derivatim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korekciju metaboli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kih porem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aja,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l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enje hiperurikemije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78360" y="457200"/>
            <a:ext cx="8063280" cy="15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99cc"/>
                </a:solidFill>
                <a:latin typeface="Arial"/>
              </a:rPr>
              <a:t>                                   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vih oblik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traje 2-3 god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ALL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andardnog rizika 98% dece ulazi u kompletnu remisij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60% i više je i kompletno iz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ANLL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remisiju post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60% bolesnik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izl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e ispod 40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5638680" y="38088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94840" y="0"/>
            <a:ext cx="8845200" cy="169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99cc"/>
                </a:solidFill>
                <a:latin typeface="Arial"/>
              </a:rPr>
              <a:t>                   </a:t>
            </a:r>
            <a:r>
              <a:rPr b="1" i="1" lang="sl-SI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TRANSPLANTACIJA KOSTNE SR</a:t>
            </a:r>
            <a:r>
              <a:rPr b="1" i="1" lang="sl-SI" sz="2400" spc="-1" strike="noStrike">
                <a:solidFill>
                  <a:srgbClr val="3399ff"/>
                </a:solidFill>
                <a:latin typeface="Arial"/>
              </a:rPr>
              <a:t>Ž</a:t>
            </a:r>
            <a:r>
              <a:rPr b="1" i="1" lang="sl-SI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Kod bolesnika kod kojih le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je po antileukemijs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otokolu n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poka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 rezultate i kod bolesnika sa ANLL,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li ALL visokog rizika primenjuje se transplantacija kostne sr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imenom HLA kompatibilne kostne sr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 brata ili sestre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-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LOGEN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transplantacijom mo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 da se izle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  znatan broj dece kod koje je nasta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ecidiv bol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Bolesnici se pripremaju za ovu intervenciju predhodnim zra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j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elog tela sa 7,5-13,2 Gy,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li jakom hemioterapijom visokim doz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iklophosphamida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li citozin-arabinoz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Kasnije se primenjuje u du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m periodu i profilaksa bolesti  ka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otiv doma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ć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a GVHD methotrexatom i ciklosporinom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6080" y="304920"/>
            <a:ext cx="8063280" cy="152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i="1" lang="sl-SI" sz="2400" spc="-1" strike="noStrike">
                <a:solidFill>
                  <a:srgbClr val="ffff00"/>
                </a:solidFill>
                <a:latin typeface="Arial"/>
              </a:rPr>
              <a:t>KOMPLIKACIJE</a:t>
            </a:r>
            <a:r>
              <a:rPr b="1" i="1" lang="sl-SI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33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od 1/4 bolesnika razvije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a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akutna i hroni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a bolest G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b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sticijalna pneumon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c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tromboza v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bakterijske i gljivi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e infek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leukoencefalopatije,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ardiomiopat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5638680" y="38088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1600" y="457200"/>
            <a:ext cx="8590320" cy="160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99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99cc"/>
                </a:solidFill>
                <a:latin typeface="Arial"/>
              </a:rPr>
              <a:t>       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gnoza ALL,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NLL,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ML nakon alogene 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ip leukemije            vreme TKS             povoljna prognoza %    indikacija za TKS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LL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I  remisija                    30-40%                            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I remisija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30-50% 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II remisija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20-30% 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ecidiv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10-20                 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NLL(AML)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I remisija                       50-60%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I remisija                       20-30%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II remisija                      10-20%             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ecidiv                         10-20%             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CML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hroni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a faza                  50-60% 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ubrzana faza                   25-50%                           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blastna faza                     0-20%               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r>
              <a:rPr b="1" i="1" lang="sl-SI" sz="18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Glavni uzroci smrti d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2438280"/>
          <a:ext cx="7772400" cy="3048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 go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4 go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– 9 go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14 go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natalna s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sreć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sreć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nične bole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đene anomal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đene anomal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loćudne neoplaz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loćudne neoplaz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rom iznenadne smr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loćudne neoplaz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rođene anomal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sreć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uici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78360" y="457200"/>
            <a:ext cx="8063280" cy="157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99cc"/>
                </a:solidFill>
                <a:latin typeface="Arial"/>
              </a:rPr>
              <a:t>                                </a:t>
            </a:r>
            <a:r>
              <a:rPr b="1" i="1" lang="sl-SI" sz="2400" spc="-1" strike="noStrike">
                <a:solidFill>
                  <a:srgbClr val="cc0099"/>
                </a:solidFill>
                <a:latin typeface="Arial"/>
                <a:ea typeface="Times New Roman"/>
              </a:rPr>
              <a:t>AUTOLOGNA 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od bolesnika koji nemaju srodnog davaoca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(HLA identi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ema reakcije odbacivanja transplantata niti bolesti G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manja u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estalost infe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Kostna sr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se uzima i obra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uje od bolesnika kad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s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u potpunoj remis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j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i bolesti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Glavni problem: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</a:rPr>
              <a:t> p</a:t>
            </a:r>
            <a:r>
              <a:rPr b="1" i="1" lang="sl-SI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isustvo rezidualnih blasta.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76320" y="1760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676520" y="2133720"/>
            <a:ext cx="5600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cc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cc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76680" y="176040"/>
            <a:ext cx="7466760" cy="5549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Retka je bolest kod dece.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Od 100 obolele dece manje od 4% ima hroni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u leukemiju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(CL) i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elimfocitnu ili mijeloidnu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(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LL,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ML,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 non-L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a limfocitna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(CLL) ne vi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a se u de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jem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u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zra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aziv hroni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a odnosi se na zrelost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elija u krvi,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du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ina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ivota 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kratka ako se bolest ne le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i.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Nekontrolisana proliferacija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elija mijeloidne loze preplavlj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kostnu sr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,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krv,ostale org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5562720" y="22860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6520" y="585720"/>
            <a:ext cx="90608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Kod dece su prisutna dva klini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ka oblika bole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1)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Juvenilni tip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(verovatno je ANLL-M4 sa subakutnim tok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2)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Adultn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 u="sng">
                <a:solidFill>
                  <a:srgbClr val="a50021"/>
                </a:solidFill>
                <a:uFillTx/>
                <a:latin typeface="Arial"/>
                <a:ea typeface="Times New Roman"/>
              </a:rPr>
              <a:t>Juvenilni tip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J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avlja se odmah nakon ro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đ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nja ili u prve dve god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Obi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no se prvo ispolji infekcij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potom hepatosplenomegalij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limfadenopatija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u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stala spontana krvarenj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sve te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a anemija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trombocitopeni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U perifernoj krvi raste leukocitoza preko 100x10</a:t>
            </a:r>
            <a:r>
              <a:rPr b="1" i="1" lang="sl-SI" sz="1800" spc="-1" strike="noStrike" baseline="30000">
                <a:solidFill>
                  <a:srgbClr val="a50021"/>
                </a:solidFill>
                <a:latin typeface="Arial"/>
              </a:rPr>
              <a:t>9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..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radi se mladim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lijama mijeloidne loze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ali i zrelim neutrofilim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bazofilim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ozinofilima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monoci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HbF je povišen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iznad 40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Ph1 hromozom je negativ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-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Kostna sr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ž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je hipercelularna sa svim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lijama mijeloidne loze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odsustvom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lija eritrocitne loze i megakarioc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2)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sl-SI" sz="2000" spc="-1" strike="noStrike" u="sng">
                <a:solidFill>
                  <a:srgbClr val="a50021"/>
                </a:solidFill>
                <a:uFillTx/>
                <a:latin typeface="Arial"/>
                <a:ea typeface="Times New Roman"/>
              </a:rPr>
              <a:t>Adultni tip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Obi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no se javlja u školske dece,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ali mo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 i u prvoj godi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5943600" y="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77280" y="622440"/>
            <a:ext cx="83574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olest prolazi kroz tri fa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)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a f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)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kcelerirana f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c)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faza  blastne k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)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sl-SI" sz="2000" spc="-1" strike="noStrike" u="sng">
                <a:solidFill>
                  <a:srgbClr val="cc0066"/>
                </a:solidFill>
                <a:uFillTx/>
                <a:latin typeface="Arial"/>
                <a:ea typeface="Times New Roman"/>
              </a:rPr>
              <a:t>Hroni</a:t>
            </a:r>
            <a:r>
              <a:rPr b="1" i="1" lang="sl-SI" sz="2000" spc="-1" strike="noStrike" u="sng">
                <a:solidFill>
                  <a:srgbClr val="cc0066"/>
                </a:solidFill>
                <a:uFillTx/>
                <a:latin typeface="Arial"/>
              </a:rPr>
              <a:t>č</a:t>
            </a:r>
            <a:r>
              <a:rPr b="1" i="1" lang="sl-SI" sz="2000" spc="-1" strike="noStrike" u="sng">
                <a:solidFill>
                  <a:srgbClr val="cc0066"/>
                </a:solidFill>
                <a:uFillTx/>
                <a:latin typeface="Arial"/>
                <a:ea typeface="Times New Roman"/>
              </a:rPr>
              <a:t>na faz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traje dugo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do nekoliko god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</a:t>
            </a:r>
            <a:r>
              <a:rPr b="1" i="1" lang="sl-SI" sz="1800" spc="-1" strike="noStrike" u="sng">
                <a:solidFill>
                  <a:srgbClr val="cc0066"/>
                </a:solidFill>
                <a:uFillTx/>
                <a:latin typeface="Arial"/>
                <a:ea typeface="Times New Roman"/>
              </a:rPr>
              <a:t>KKS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Više od 75% leukocita su segmentirani i nesegmentira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eutrofili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pove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n je broj mijelocita i metamijelocit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roj trombocita je normalan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ili pove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n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roj Er je normalan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ili sn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en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</a:t>
            </a:r>
            <a:r>
              <a:rPr b="1" i="1" lang="sl-SI" sz="1800" spc="-1" strike="noStrike" u="sng">
                <a:solidFill>
                  <a:srgbClr val="cc0066"/>
                </a:solidFill>
                <a:uFillTx/>
                <a:latin typeface="Arial"/>
                <a:ea typeface="Times New Roman"/>
              </a:rPr>
              <a:t>Kostna sr</a:t>
            </a:r>
            <a:r>
              <a:rPr b="1" i="1" lang="sl-SI" sz="1800" spc="-1" strike="noStrike" u="sng">
                <a:solidFill>
                  <a:srgbClr val="cc0066"/>
                </a:solidFill>
                <a:uFillTx/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Sl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a periferij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roj mijeloblasta i nezrelih mijelocita 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povišen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mogu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se n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i i Auerovi štap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Pove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n je broj bazofila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ob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o i broj trombocit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Obavezno je prisutan Filadelfija hromosom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(Ph1)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radi se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translokacij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i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dugog kraka hromosoma 22 ob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o na dugi kr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hromosoma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5486400" y="3049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-77760" y="380880"/>
            <a:ext cx="97074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kcelerantna faza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                     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J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vljaju se intenzivni bolovi u kostim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(periostalni infilt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leukemijskih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elij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U krvi raste broj leukocita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više od 50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x10</a:t>
            </a:r>
            <a:r>
              <a:rPr b="1" i="1" lang="sl-SI" sz="1800" spc="-1" strike="noStrike" baseline="30000">
                <a:solidFill>
                  <a:srgbClr val="cc0066"/>
                </a:solidFill>
                <a:latin typeface="Arial"/>
              </a:rPr>
              <a:t>9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/L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... uz pojavu blast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više od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Er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Hb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Hct pada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Tr rastu iznad 5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00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x10</a:t>
            </a:r>
            <a:r>
              <a:rPr b="1" i="1" lang="sl-SI" sz="1800" spc="-1" strike="noStrike" baseline="30000">
                <a:solidFill>
                  <a:srgbClr val="cc0066"/>
                </a:solidFill>
                <a:latin typeface="Arial"/>
              </a:rPr>
              <a:t>9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/L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Splenomegalija je sve ve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kao i mijelofibro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)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sl-SI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lastna kriza:</a:t>
            </a: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990099"/>
                </a:solidFill>
                <a:latin typeface="Arial"/>
              </a:rPr>
              <a:t>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olest prelazi iz hroni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č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ne u akutnu fazu kod svih bolesni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-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U krvi i u kostnoj sr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ž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i raste broj blasta koji fenotipski mo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biti limfoblasti ili mijeloblasti,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cc0066"/>
                </a:solidFill>
                <a:latin typeface="Arial"/>
                <a:ea typeface="Times New Roman"/>
              </a:rPr>
              <a:t>ali su Ph1 pozitivni.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5562720" y="3049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71880" y="380880"/>
            <a:ext cx="863172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1" i="1" lang="sl-SI" sz="2400" spc="-1" strike="noStrike">
                <a:solidFill>
                  <a:srgbClr val="660066"/>
                </a:solidFill>
                <a:latin typeface="Arial"/>
              </a:rPr>
              <a:t>LE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Le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enje hroni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ne nelimfocitne leukemije obuhvata tako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đ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e protok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hemioterapije,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ali je lek izbora Busulf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Primenjuje se Hidroxiureja,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6-Mercaptopurin,Thiogunin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Zadnjih godina je lek izbora Gliv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Transplantacije kostne sr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ž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i je indikovana u hroni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</a:rPr>
              <a:t>č</a:t>
            </a: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noj fazi i to aloge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jer se radi o bolesti stem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</a:rPr>
              <a:t>ć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elije.</a:t>
            </a:r>
            <a:r>
              <a:rPr b="1" i="1" lang="sl-SI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5562720" y="3049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ONIČNA LEUKEMIJA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čestalost neoplazmi dečje dobi -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3"/>
          <p:cNvGraphicFramePr/>
          <p:nvPr/>
        </p:nvGraphicFramePr>
        <p:xfrm>
          <a:off x="476280" y="1982880"/>
          <a:ext cx="758196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982880"/>
                    <a:ext cx="758196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čestalost neoplazmi dečje dobi -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542960" y="2136600"/>
          <a:ext cx="5905440" cy="40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2136600"/>
                    <a:ext cx="5905440" cy="40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39200" y="950760"/>
            <a:ext cx="8595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u maligne bolesti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e oko 50% svih malignih bole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 100 000 dec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l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od 15 god.   4-5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oboleti u toku jedne god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iše od  80% su akutne limfoblastne leukemije – 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ko 15%-20% su akutne nelimfocitn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li mijeloidne – AN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ke su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mijeloidne leukem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ih limfocitnih nema 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m uzra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M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 se javiti u svakom  dobu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g uzrast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i odmah posle ro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ad govorimo o konatalnol leukemi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LL je na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u uzrastu od 3-6 god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LL se javlja u svako doba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medijana je 8 god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nos d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a-devoj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ca je 1,4: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5638680" y="228600"/>
            <a:ext cx="3200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32720" y="950760"/>
            <a:ext cx="84056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TIOLOGIJA:</a:t>
            </a:r>
            <a:r>
              <a:rPr b="1" i="1" lang="sl-SI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poz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Kancerogeni fakt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onizuj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 zr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emijske substance/benzol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oluol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zbes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kovi koji deluju toks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 na k.sr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sta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Virusi </a:t>
            </a:r>
            <a:r>
              <a:rPr b="1" i="1" lang="sl-SI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RNK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u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votinja uzrokuju tomorske bolesti pa i leukemi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trovirusi (HTLV I i HTLV II) n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ni su kod obolelih od leukem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Genetski faktori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ca sa Bloom-ovim sindromom, Down-ovim, Louis-Barr-ovim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Fankonijevom anemijom, Kostmanovom agranulocitoz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boljevaju znatno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Jednojajni blizanci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o je jedan oboleo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iše od 1/3 dece obole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d AL ima hromozomske aberacije: hipoploidiju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iperploidiju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nslokacij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leciju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verziju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omene nisu specif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571500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3600" y="914400"/>
            <a:ext cx="8306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uštinu leukemije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ini maligna promena jednog klona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 pri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e kod t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 menja brzina sazrevanja i diferencijacije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vara se ogroman broj bla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Kod dece su te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e izrazito nezrele,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a se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sto limfoidne i mijeloid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e ne mogu sa sigurnoš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u razlikov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di postavljanja precizne dijagnoze mora se uradi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morfolo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itohem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imunološka 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aliza hromoz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571500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38480" y="950760"/>
            <a:ext cx="605736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ukemija je heterogena bol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ema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zrelosti </a:t>
            </a:r>
            <a:r>
              <a:rPr b="1" i="1" lang="sl-SI" sz="2000" spc="-1" strike="noStrike" u="sng">
                <a:solidFill>
                  <a:srgbClr val="003366"/>
                </a:solidFill>
                <a:uFillTx/>
                <a:latin typeface="Arial"/>
              </a:rPr>
              <a:t>ć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lija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li se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)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ukemije nezrel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kutne leukem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)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eukemije zrelih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ija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 leukem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o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vrsti </a:t>
            </a:r>
            <a:r>
              <a:rPr b="1" i="1" lang="sl-SI" sz="2000" spc="-1" strike="noStrike" u="sng">
                <a:solidFill>
                  <a:srgbClr val="003366"/>
                </a:solidFill>
                <a:uFillTx/>
                <a:latin typeface="Arial"/>
              </a:rPr>
              <a:t>ć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lija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)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imfat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akutne i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b)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limfat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(akutne i hroni</a:t>
            </a: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5638680" y="304920"/>
            <a:ext cx="3200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99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KUTNE LEUKEMI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99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9:06:27Z</dcterms:created>
  <dc:creator>KBC</dc:creator>
  <dc:description/>
  <dc:language>en-US</dc:language>
  <cp:lastModifiedBy>Zoran</cp:lastModifiedBy>
  <dcterms:modified xsi:type="dcterms:W3CDTF">2020-09-27T11:53:37Z</dcterms:modified>
  <cp:revision>14</cp:revision>
  <dc:subject/>
  <dc:title>PowerPoint Presentation</dc:title>
</cp:coreProperties>
</file>